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9236A-F929-46F8-BA60-C7E8DEE988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6C427EC-F02B-4E12-A75E-DFCA7EC10D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14BB16A-F33A-4CFF-862D-DA4F0143F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00E4C5A1-4B88-468B-940D-766021E128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8E3841-6CD4-4F1F-B446-8BA3455C33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875189F-DD8C-4D0C-86D0-0573053CA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D0E8A38-4E72-4E0D-8F17-6E01458C7E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1A0CABF-D1B8-4FB2-8230-A7A624998F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F1170B16-99B4-4204-86E4-DC225220B8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9500BAA5-7620-4421-A5C3-40D13037E2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BA602AD-9340-4B08-B66F-52A431DEDE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CAECC8A-3D0A-4910-9482-9891EA3420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B49B236-1F47-4792-AD98-99133FC5E9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D003A11-6FFE-4835-8161-2A8D3FF6F4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127BCF2-7044-4E8B-B46E-6C7ED8304A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4E53D8EC-5114-4F64-BFCD-B730F4BF68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FFC0FBB-3769-4ED5-BC02-4D4A84046D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8895DBA-1F2D-4E18-8B15-AA8416545F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ABA8F9F-DDD9-41A6-A4E9-E3A7D9855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206116ED-4AF5-46CC-8D17-8F5CB62E23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E0F45E8-C979-4E82-9DA5-246D478229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2D7F737-D1B3-4C4E-97D7-695E6914B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406DA27-BC60-415F-831D-BEFFDD5A3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13FC7CF-CFB6-4A65-8104-4F207B13EB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E0A8-B065-49A8-88C2-5D71CCC99A3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0F71-50CE-4528-82CE-14D230A449E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can people do on glaciated land?</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62643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ourism in the highlands</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ot everyone in local communities                          welcome tourists, who might                                       interfere with their livelihoods                       (eg farmer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Or tourists cause congestion and pollution by bringing their cars and leaving rubbish on hillsi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me people believe that tourist developments like building ski lifts spoil the landscape for other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o much recreational activity may damage fragile environments (eg soil erosion can interfere with flora and fauna).</a:t>
            </a:r>
            <a:endParaRPr b="0" lang="en-US" sz="2800" spc="-1" strike="noStrike">
              <a:solidFill>
                <a:srgbClr val="006699"/>
              </a:solidFill>
              <a:latin typeface="Comic Sans MS"/>
            </a:endParaRPr>
          </a:p>
        </p:txBody>
      </p:sp>
      <p:pic>
        <p:nvPicPr>
          <p:cNvPr id="186" name="" descr="right - cyclists riding through hilly countryside, left - car park"/>
          <p:cNvPicPr/>
          <p:nvPr/>
        </p:nvPicPr>
        <p:blipFill>
          <a:blip r:embed="rId6"/>
          <a:srcRect l="50205" t="0" r="0" b="932"/>
          <a:stretch/>
        </p:blipFill>
        <p:spPr>
          <a:xfrm>
            <a:off x="6516720" y="260280"/>
            <a:ext cx="2495520" cy="23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aling with conflicts</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Glacial valleys</a:t>
            </a:r>
            <a:r>
              <a:rPr b="0" lang="en-GB" sz="2800" spc="-1" strike="noStrike">
                <a:solidFill>
                  <a:srgbClr val="006699"/>
                </a:solidFill>
                <a:latin typeface="Comic Sans MS"/>
              </a:rPr>
              <a:t> are very attractive to tourists, and so methods have to be put in place to protect the environment from damag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is includes trying to prevent soil erosion by introducing artificial paths or by diverting popular routes to allow the old paths time to recov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me places have become </a:t>
            </a:r>
            <a:r>
              <a:rPr b="1" lang="en-GB" sz="2800" spc="-1" strike="noStrike">
                <a:solidFill>
                  <a:srgbClr val="006699"/>
                </a:solidFill>
                <a:latin typeface="Comic Sans MS"/>
              </a:rPr>
              <a:t>'honeypot'</a:t>
            </a:r>
            <a:r>
              <a:rPr b="0" lang="en-GB" sz="2800" spc="-1" strike="noStrike">
                <a:solidFill>
                  <a:srgbClr val="006699"/>
                </a:solidFill>
                <a:latin typeface="Comic Sans MS"/>
              </a:rPr>
              <a:t> sites, which attract a huge number of tourists every year. By promoting other similar areas, the local authorities can try to alleviate the pressure on certain very popular places.</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aling with conflicts</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onflicts</a:t>
            </a:r>
            <a:r>
              <a:rPr b="0" lang="en-US" sz="3200" spc="-1" strike="noStrike">
                <a:solidFill>
                  <a:srgbClr val="006699"/>
                </a:solidFill>
                <a:latin typeface="Comic Sans MS"/>
              </a:rPr>
              <a:t> can also occur between local farmers or residents and tourists. The increased traffic, footpath erosion and the problems of family dogs worrying sheep all have led to conflicts between the local people and the visitor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main way to alleviate these conflicts is to educate people into the correct way to treat the countryside when they visit.</a:t>
            </a: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aling with conflicts</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Speed limits</a:t>
            </a:r>
            <a:r>
              <a:rPr b="0" lang="en-GB" sz="2800" spc="-1" strike="noStrike">
                <a:solidFill>
                  <a:srgbClr val="006699"/>
                </a:solidFill>
                <a:latin typeface="Comic Sans MS"/>
              </a:rPr>
              <a:t> for boats have been introduced in some of the most popular lakes, such as Winderme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se are aimed at protecting local wildlife and preventing too much disruption to those enjoying the tranquil nature of the area.</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Tourist facilities</a:t>
            </a:r>
            <a:r>
              <a:rPr b="0" lang="en-GB" sz="2800" spc="-1" strike="noStrike">
                <a:solidFill>
                  <a:srgbClr val="006699"/>
                </a:solidFill>
                <a:latin typeface="Comic Sans MS"/>
              </a:rPr>
              <a:t>, such as visitor centres and parking areas have been introduced to try to cater for the influx of visitors, without taking over local villages and tow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se also provide a good base from which to try to educate people on how to treat the countryside when the visit.</a:t>
            </a:r>
            <a:endParaRPr b="0" lang="en-US" sz="28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ter works in the highlands</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seen in many parts of the Alps, glaciated valleys provide a perfect opportunity for the production of hydroelectric power and for an easily trapped water supply for lowland cit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steep sides, high rainfall and low population density make them ideal places for dams to be built and reservoirs created (often by just increasing the area already filled by a ribbon lake).</a:t>
            </a: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ter works in the highlands</a:t>
            </a:r>
            <a:endParaRPr b="0" lang="en-US" sz="4000" spc="-1" strike="noStrike">
              <a:solidFill>
                <a:srgbClr val="006666"/>
              </a:solidFill>
              <a:latin typeface="Comic Sans MS"/>
            </a:endParaRPr>
          </a:p>
        </p:txBody>
      </p:sp>
      <p:sp>
        <p:nvSpPr>
          <p:cNvPr id="19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creates local jobs and new opportunities for recreational sports and businesses, such as fish-farming.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also provides people in other parts of the country with water and renewable electricity.</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amming has a major impact on local environment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looding valleys and altering the course of rivers prevents the landscape being used by farmers, tourists and wildlife and affects the water cycl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ams and electricity pylons are considered by some to be blots on the landscape.</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ter works in the highlands</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4508280"/>
            <a:ext cx="8642160" cy="2089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ighland dam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Left: Lake Vyrnwy dam in Powys, Wal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Right: the Derwent Water dam in England's Peak District.</a:t>
            </a:r>
            <a:endParaRPr b="0" lang="en-US" sz="3200" spc="-1" strike="noStrike">
              <a:solidFill>
                <a:srgbClr val="006699"/>
              </a:solidFill>
              <a:latin typeface="Comic Sans MS"/>
            </a:endParaRPr>
          </a:p>
        </p:txBody>
      </p:sp>
      <p:pic>
        <p:nvPicPr>
          <p:cNvPr id="199" name="" descr="Left: A dam at lake Vyrnwy. Right: A dam at Derwent water"/>
          <p:cNvPicPr/>
          <p:nvPr/>
        </p:nvPicPr>
        <p:blipFill>
          <a:blip r:embed="rId4"/>
          <a:stretch/>
        </p:blipFill>
        <p:spPr>
          <a:xfrm>
            <a:off x="611280" y="1125360"/>
            <a:ext cx="8064360" cy="301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Comic Sans MS"/>
              </a:rPr>
              <a:t>Lower glacial landscapes</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836640"/>
            <a:ext cx="8066160" cy="194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wland areas across Great Britain, where ancient glaciers have created plains and rolling landscapes and deposited fertile material transported from highland areas, provide an opportunity for different activities.</a:t>
            </a:r>
            <a:endParaRPr b="0" lang="en-US" sz="2400" spc="-1" strike="noStrike">
              <a:solidFill>
                <a:srgbClr val="006699"/>
              </a:solidFill>
              <a:latin typeface="Comic Sans MS"/>
            </a:endParaRPr>
          </a:p>
        </p:txBody>
      </p:sp>
      <p:sp>
        <p:nvSpPr>
          <p:cNvPr id="202" name="PlaceHolder 3"/>
          <p:cNvSpPr>
            <a:spLocks noGrp="1"/>
          </p:cNvSpPr>
          <p:nvPr>
            <p:ph/>
          </p:nvPr>
        </p:nvSpPr>
        <p:spPr>
          <a:xfrm>
            <a:off x="468360" y="5373720"/>
            <a:ext cx="8424720" cy="12240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wland landscapes: </a:t>
            </a:r>
            <a:endParaRPr b="0" lang="en-US" sz="2400" spc="-1" strike="noStrike">
              <a:solidFill>
                <a:srgbClr val="006699"/>
              </a:solidFill>
              <a:latin typeface="Comic Sans MS"/>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vestock farming (left) and </a:t>
            </a:r>
            <a:endParaRPr b="0" lang="en-US" sz="2400" spc="-1" strike="noStrike">
              <a:solidFill>
                <a:srgbClr val="006699"/>
              </a:solidFill>
              <a:latin typeface="Comic Sans MS"/>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able farming in lower glacial valleys</a:t>
            </a:r>
            <a:endParaRPr b="0" lang="en-US" sz="2400" spc="-1" strike="noStrike">
              <a:solidFill>
                <a:srgbClr val="006699"/>
              </a:solidFill>
              <a:latin typeface="Comic Sans MS"/>
            </a:endParaRPr>
          </a:p>
        </p:txBody>
      </p:sp>
      <p:pic>
        <p:nvPicPr>
          <p:cNvPr id="203" name="" descr="left - cows in a field, right - a field of wheat"/>
          <p:cNvPicPr/>
          <p:nvPr/>
        </p:nvPicPr>
        <p:blipFill>
          <a:blip r:embed="rId5"/>
          <a:stretch/>
        </p:blipFill>
        <p:spPr>
          <a:xfrm>
            <a:off x="971640" y="2565360"/>
            <a:ext cx="6913440" cy="24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Farming in the glacial lowlands</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ore fertile lowlands offer much better opportunities for both arable and animal farming than the highlands. </a:t>
            </a:r>
            <a:endParaRPr b="0" lang="en-US" sz="2800" spc="-1" strike="noStrike">
              <a:solidFill>
                <a:srgbClr val="006699"/>
              </a:solidFill>
              <a:latin typeface="Comic Sans MS"/>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creates jobs and helps feed and clothe people.</a:t>
            </a:r>
            <a:endParaRPr b="0" lang="en-US" sz="2800" spc="-1" strike="noStrike">
              <a:solidFill>
                <a:srgbClr val="006699"/>
              </a:solidFill>
              <a:latin typeface="Comic Sans MS"/>
            </a:endParaRPr>
          </a:p>
          <a:p>
            <a:pPr marL="339480" indent="-3394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39480" indent="-3394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tensive farming displaces vegetation and wildlife, damages the environment through the use of fertilisers, pesticides and weed killers, and may spread disease to animals and humans.</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ourism in the glacial lowlands</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99"/>
                </a:solidFill>
                <a:uFillTx/>
                <a:latin typeface="Comic Sans MS"/>
              </a:rPr>
              <a:t>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owland areas attract tourists for a wide range of reaso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creational activities include horse riding, walking, fishing, boating and many othe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ertile areas are also good for creating golf cour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99"/>
                </a:solidFill>
                <a:uFillTx/>
                <a:latin typeface="Comic Sans MS"/>
              </a:rPr>
              <a:t>Dis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dly-managed tourism can cause damage to the environment through soil erosion, pollution, over fishing etc.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t can also interfere with local livelihoods (eg those of farme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Golf courses take land out of agricultural use and remove variety from the landscape.</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do we use glaciated highlands for?</a:t>
            </a:r>
            <a:endParaRPr b="0" lang="en-US" sz="3600" spc="-1" strike="noStrike">
              <a:solidFill>
                <a:srgbClr val="006666"/>
              </a:solidFill>
              <a:latin typeface="Comic Sans MS"/>
            </a:endParaRPr>
          </a:p>
        </p:txBody>
      </p:sp>
      <p:sp>
        <p:nvSpPr>
          <p:cNvPr id="16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ighland glacial valleys, such as those found in </a:t>
            </a:r>
            <a:r>
              <a:rPr b="1" lang="en-US" sz="3200" spc="-1" strike="noStrike">
                <a:solidFill>
                  <a:srgbClr val="006699"/>
                </a:solidFill>
                <a:latin typeface="Comic Sans MS"/>
              </a:rPr>
              <a:t>Cairngorms</a:t>
            </a:r>
            <a:r>
              <a:rPr b="0" lang="en-US" sz="3200" spc="-1" strike="noStrike">
                <a:solidFill>
                  <a:srgbClr val="006699"/>
                </a:solidFill>
                <a:latin typeface="Comic Sans MS"/>
              </a:rPr>
              <a:t> in Scotland, the </a:t>
            </a:r>
            <a:r>
              <a:rPr b="1" lang="en-US" sz="3200" spc="-1" strike="noStrike">
                <a:solidFill>
                  <a:srgbClr val="006699"/>
                </a:solidFill>
                <a:latin typeface="Comic Sans MS"/>
              </a:rPr>
              <a:t>Pennines</a:t>
            </a:r>
            <a:r>
              <a:rPr b="0" lang="en-US" sz="3200" spc="-1" strike="noStrike">
                <a:solidFill>
                  <a:srgbClr val="006699"/>
                </a:solidFill>
                <a:latin typeface="Comic Sans MS"/>
              </a:rPr>
              <a:t> in England or </a:t>
            </a:r>
            <a:r>
              <a:rPr b="1" lang="en-US" sz="3200" spc="-1" strike="noStrike">
                <a:solidFill>
                  <a:srgbClr val="006699"/>
                </a:solidFill>
                <a:latin typeface="Comic Sans MS"/>
              </a:rPr>
              <a:t>Snowdonia </a:t>
            </a:r>
            <a:r>
              <a:rPr b="0" lang="en-US" sz="3200" spc="-1" strike="noStrike">
                <a:solidFill>
                  <a:srgbClr val="006699"/>
                </a:solidFill>
                <a:latin typeface="Comic Sans MS"/>
              </a:rPr>
              <a:t>in Wales provide opportunities for different activities, all with advantages and disadvantages for different human communities, and for the environment. </a:t>
            </a: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ettlement in the glacial lowlands</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wland areas provide much more suitable locations than harsh highland areas for building villages, towns and cities. </a:t>
            </a:r>
            <a:endParaRPr b="0" lang="en-US" sz="2800" spc="-1" strike="noStrike">
              <a:solidFill>
                <a:srgbClr val="006699"/>
              </a:solidFill>
              <a:latin typeface="Comic Sans MS"/>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inburgh, for example, is situated on the site of an ancient glacier.</a:t>
            </a:r>
            <a:endParaRPr b="0" lang="en-US" sz="2800" spc="-1" strike="noStrike">
              <a:solidFill>
                <a:srgbClr val="006699"/>
              </a:solidFill>
              <a:latin typeface="Comic Sans MS"/>
            </a:endParaRPr>
          </a:p>
          <a:p>
            <a:pPr marL="339480" indent="-3394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39480" indent="-3394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wns - while providing humans with somewhere to live - displace vegetation and wildlife, transform landscapes and bring problems of pollution, and water and power consumption.</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Upper glacial valleys: farming</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pland glaciated</a:t>
            </a:r>
            <a:r>
              <a:rPr b="1" lang="en-US" sz="2400" spc="-1" strike="noStrike">
                <a:solidFill>
                  <a:srgbClr val="006699"/>
                </a:solidFill>
                <a:latin typeface="Comic Sans MS"/>
              </a:rPr>
              <a:t> </a:t>
            </a:r>
            <a:r>
              <a:rPr b="0" lang="en-US" sz="2400" spc="-1" strike="noStrike">
                <a:solidFill>
                  <a:srgbClr val="006699"/>
                </a:solidFill>
                <a:latin typeface="Comic Sans MS"/>
              </a:rPr>
              <a:t>areas are not easy places to farm, with their steep slopes, high precipitation, low temperatures and relatively thin, poor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Alps some sheep/goat farming occu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used to use the methods of transhumance, which meant grazing the animals on the high mountain pastures during the warmer summer months, before bringing them down to lower valley areas in the wint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Great Britain the glacial valley floor is very valuable farming land, as it is sheltered, flat and well irriga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oils are variable but can be very fertile in areas of glacial clay deposi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arming is still mainly pastoral, although some areas can be used for arable farming </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Upper glacial valleys: farming</a:t>
            </a:r>
            <a:endParaRPr b="0" lang="en-US" sz="4000" spc="-1" strike="noStrike">
              <a:solidFill>
                <a:srgbClr val="006666"/>
              </a:solidFill>
              <a:latin typeface="Comic Sans MS"/>
            </a:endParaRPr>
          </a:p>
        </p:txBody>
      </p:sp>
      <p:sp>
        <p:nvSpPr>
          <p:cNvPr id="170" name="PlaceHolder 2"/>
          <p:cNvSpPr>
            <a:spLocks noGrp="1"/>
          </p:cNvSpPr>
          <p:nvPr>
            <p:ph/>
          </p:nvPr>
        </p:nvSpPr>
        <p:spPr>
          <a:xfrm>
            <a:off x="250560" y="907560"/>
            <a:ext cx="626580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Advantag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rming - especially sheep-farming - has been done in highland areas for centu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has shaped the landscape and local communities, and is an important part of local economi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Disadvantag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rming may harm the environmen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grazing causes soil erosion which may squeeze out wildlife and pollute water sourc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he number of sheep is increased, with more of the upland being used, then trees and shrubs, which benefit the wildlife may be cut down.</a:t>
            </a:r>
            <a:endParaRPr b="0" lang="en-US" sz="2400" spc="-1" strike="noStrike">
              <a:solidFill>
                <a:srgbClr val="006699"/>
              </a:solidFill>
              <a:latin typeface="Comic Sans MS"/>
            </a:endParaRPr>
          </a:p>
        </p:txBody>
      </p:sp>
      <p:pic>
        <p:nvPicPr>
          <p:cNvPr id="171" name="" descr="left - photo shows the Yorkshire Dales in northern England, hilly fields with scattered trees and rock-made walls, right - an upland sheep farmer with his sheep"/>
          <p:cNvPicPr/>
          <p:nvPr/>
        </p:nvPicPr>
        <p:blipFill>
          <a:blip r:embed="rId8"/>
          <a:srcRect l="0" t="0" r="49613" b="-2851"/>
          <a:stretch/>
        </p:blipFill>
        <p:spPr>
          <a:xfrm>
            <a:off x="6443640" y="3141720"/>
            <a:ext cx="2160720" cy="1650960"/>
          </a:xfrm>
          <a:prstGeom prst="rect">
            <a:avLst/>
          </a:prstGeom>
          <a:ln w="0">
            <a:noFill/>
          </a:ln>
        </p:spPr>
      </p:pic>
      <p:pic>
        <p:nvPicPr>
          <p:cNvPr id="172" name="" descr="left - photo shows the Yorkshire Dales in northern England, hilly fields with scattered trees and rock-made walls, right - an upland sheep farmer with his sheep"/>
          <p:cNvPicPr/>
          <p:nvPr/>
        </p:nvPicPr>
        <p:blipFill>
          <a:blip r:embed="rId9"/>
          <a:srcRect l="48542" t="0" r="0" b="1677"/>
          <a:stretch/>
        </p:blipFill>
        <p:spPr>
          <a:xfrm>
            <a:off x="6443640" y="765000"/>
            <a:ext cx="2206800" cy="157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EU and how they influence things</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about 15 years ago, the European Union (EU) wanted to encourage farmers to stay in low producing area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this, farmers had been leaving the land in droves and parts of France and Germany were becoming ghost communiti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y paid the people to farm the poorest areas, in particular upland areas like the glaciated regions we are talking about.</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ay they did this was to give a subsidiary based on the number of sheep a farmer ha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idea worked and many villages now have a thriving population.</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EU and how they influence things</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is also led to overstocking, overgrazing, soil erosion, loss of habitat.</a:t>
            </a:r>
            <a:endParaRPr b="0" lang="en-US" sz="3200" spc="-1" strike="noStrike">
              <a:solidFill>
                <a:srgbClr val="006699"/>
              </a:solidFill>
              <a:latin typeface="Comic Sans MS"/>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about 15 years ago, they realized the error of that particular plan!</a:t>
            </a:r>
            <a:endParaRPr b="0" lang="en-US" sz="3200" spc="-1" strike="noStrike">
              <a:solidFill>
                <a:srgbClr val="006699"/>
              </a:solidFill>
              <a:latin typeface="Comic Sans MS"/>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now they subsidize the area a farmer works, not the number of sheep. They also get extra for looking after the environment, such as planting mixed hedges and leaving corridors around their plough fields for the wildlife.</a:t>
            </a:r>
            <a:endParaRPr b="0" lang="en-US" sz="3200" spc="-1" strike="noStrike">
              <a:solidFill>
                <a:srgbClr val="006699"/>
              </a:solidFill>
              <a:latin typeface="Comic Sans MS"/>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 farmers have cut down on the number of sheep and the environment is recovering.</a:t>
            </a:r>
            <a:endParaRPr b="0" lang="en-US" sz="3200" spc="-1" strike="noStrike">
              <a:solidFill>
                <a:srgbClr val="006699"/>
              </a:solidFill>
              <a:latin typeface="Comic Sans MS"/>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Forestry in the highlands</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nifer forests have been planted in many highland are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estry creates local jobs and provides timb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there was no forest previously, conifer forests can help prevent soil erosion and help counter the impact of deforestation elsewhe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Dis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estry may push out other vegetation, and force other activities such as farming into declin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some wildlife the forest will provide a habitat, but other animals will lose thei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people argue that conifer forests look unattractive - though others think they beautiful.</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a:t>
            </a:r>
            <a:endParaRPr b="0" lang="en-US" sz="4000" spc="-1" strike="noStrike">
              <a:solidFill>
                <a:srgbClr val="006666"/>
              </a:solidFill>
              <a:latin typeface="Comic Sans MS"/>
            </a:endParaRPr>
          </a:p>
        </p:txBody>
      </p:sp>
      <p:sp>
        <p:nvSpPr>
          <p:cNvPr id="180"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of conifers, in particular imported varieties, were plant with grants from the government after WW2.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 the wood was needed for industry – paper etc – and conifers were quick growers!</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said this tends to push out a lot of the wildlife that would live happily in mixed woodlan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look at the floor of a conifer wood you will hardly anything growing.</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has 2 main causes:</a:t>
            </a:r>
            <a:endParaRPr b="0" lang="en-US" sz="2400" spc="-1" strike="noStrike">
              <a:solidFill>
                <a:srgbClr val="006699"/>
              </a:solidFill>
              <a:latin typeface="Comic Sans MS"/>
            </a:endParaRPr>
          </a:p>
          <a:p>
            <a:pPr lvl="1" marL="735480" indent="-28296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ecause all conifers except larch are evergreen, there is no time of the year when light reaches the floor</a:t>
            </a:r>
            <a:endParaRPr b="0" lang="en-US" sz="2000" spc="-1" strike="noStrike">
              <a:solidFill>
                <a:srgbClr val="006699"/>
              </a:solidFill>
              <a:latin typeface="Comic Sans MS"/>
            </a:endParaRPr>
          </a:p>
          <a:p>
            <a:pPr lvl="1" marL="735480" indent="-28296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ine needles are very acid, so not much will grown underneath them anyway</a:t>
            </a:r>
            <a:endParaRPr b="0" lang="en-US" sz="20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ew plants mean fewer invertebrates and so few birds and mamma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now the Forestry Commission are learning the lesson. </a:t>
            </a:r>
            <a:endParaRPr b="0" lang="en-US" sz="2400" spc="-1" strike="noStrike">
              <a:solidFill>
                <a:srgbClr val="006699"/>
              </a:solidFill>
              <a:latin typeface="Comic Sans MS"/>
            </a:endParaRPr>
          </a:p>
          <a:p>
            <a:pPr marL="339480" indent="-3394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conifers mature and are cut down, they are being replaced by mixed woodland, using native species.</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ourism in the highlands</a:t>
            </a:r>
            <a:endParaRPr b="0" lang="en-US" sz="4000" spc="-1" strike="noStrike">
              <a:solidFill>
                <a:srgbClr val="006666"/>
              </a:solidFill>
              <a:latin typeface="Comic Sans MS"/>
            </a:endParaRPr>
          </a:p>
        </p:txBody>
      </p:sp>
      <p:sp>
        <p:nvSpPr>
          <p:cNvPr id="182" name="PlaceHolder 2"/>
          <p:cNvSpPr>
            <a:spLocks noGrp="1"/>
          </p:cNvSpPr>
          <p:nvPr>
            <p:ph/>
          </p:nvPr>
        </p:nvSpPr>
        <p:spPr>
          <a:xfrm>
            <a:off x="250560" y="1052280"/>
            <a:ext cx="676908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are attracted by the  beautiful lakes and mountains of glacial highland area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ritish and international tourists visit the highlands for                       recreational activities such as skiing, climbing, mountain-biking, hiking and hang gliding.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gives people who live in towns an opportunity to enjoy the countryside, while bringing wealth to the local people who provide them with accommodation and other services.</a:t>
            </a:r>
            <a:endParaRPr b="0" lang="en-US" sz="2800" spc="-1" strike="noStrike">
              <a:solidFill>
                <a:srgbClr val="006699"/>
              </a:solidFill>
              <a:latin typeface="Comic Sans MS"/>
            </a:endParaRPr>
          </a:p>
        </p:txBody>
      </p:sp>
      <p:pic>
        <p:nvPicPr>
          <p:cNvPr id="183" name="" descr="right - cyclists riding through hilly countryside, left - car park"/>
          <p:cNvPicPr/>
          <p:nvPr/>
        </p:nvPicPr>
        <p:blipFill>
          <a:blip r:embed="rId5"/>
          <a:srcRect l="0" t="0" r="50463" b="-1397"/>
          <a:stretch/>
        </p:blipFill>
        <p:spPr>
          <a:xfrm>
            <a:off x="6372360" y="907920"/>
            <a:ext cx="24843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1:17:10Z</dcterms:created>
  <dc:creator>Lindy</dc:creator>
  <dc:description/>
  <dc:language>en-US</dc:language>
  <cp:lastModifiedBy>Lindy</cp:lastModifiedBy>
  <dcterms:modified xsi:type="dcterms:W3CDTF">2009-02-07T13:31:52Z</dcterms:modified>
  <cp:revision>2</cp:revision>
  <dc:subject/>
  <dc:title>What can people do on glaciated land?</dc:title>
</cp:coreProperties>
</file>